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8330-AF4E-4903-B8D4-447B65D30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75B6-D681-4594-89B8-7D5F725C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1DB6-2BB5-4220-BC29-B140875CA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D533-FFBF-4150-989B-12EA8A76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9779-6544-4225-8E1C-E24D4E26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6C52-F587-4628-89F4-7EE8F2E1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D6AA-C40C-4F86-B443-BEA4A2E4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A86E-8966-4845-ACE2-CA1A41E6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DB4E-7D41-4CB1-88DB-276B789C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2888-7FA6-46C9-8FCB-D24CB045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B9B1-2120-4DC3-B163-6FE94A5B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3D2E-DF35-43BD-AF65-DEA52C7B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6568-54B0-464F-A16A-82359D15655A}" type="slidenum">
              <a:rPr b="0" lang="ar-L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5280" y="2060640"/>
            <a:ext cx="550872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مسيح هو هو في الأمس واليوم هو البداية هو النهاية هو الألف والياء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11560" y="1989000"/>
            <a:ext cx="593244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ه المجد له الإكرام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ea typeface="Akhbar MT"/>
              </a:rPr>
              <a:t>   له العزّة والقوّة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ea typeface="Akhbar MT"/>
              </a:rPr>
              <a:t>  مدى الدهور آمين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ea typeface="Akhbar MT"/>
              </a:rPr>
              <a:t>       هللويا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20:28:29Z</dcterms:created>
  <dc:creator>Charbel Azar</dc:creator>
  <dc:description/>
  <dc:language>en-US</dc:language>
  <cp:lastModifiedBy>Charbel Azar</cp:lastModifiedBy>
  <dcterms:modified xsi:type="dcterms:W3CDTF">2002-07-03T09:06:12Z</dcterms:modified>
  <cp:revision>2</cp:revision>
  <dc:subject/>
  <dc:title>Slide 1</dc:title>
</cp:coreProperties>
</file>